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1C1-9280-4666-B082-16CF8189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F3F-8F09-4FB2-9E8B-98883D39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92B-15B7-42CF-946C-D5A25AC4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BFB-0682-4477-8D61-5AEA3E89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75B-0BA8-4123-8921-BE4FB6C3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7A6-3D22-4D4C-8CBE-2A7A18AC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9FF-197F-4158-AE1D-1E6CFC43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7FA-C4B4-47E3-82A7-0F4C53D8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FCD-6428-47B1-BEC5-9F6E40D6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1E0-610E-4FA8-B4DD-5B94F16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B19-E74F-4163-80C7-BC56C04D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770-29C5-43D0-BA5A-424A7F5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22B0-3013-485B-AACB-42619E30EF1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cola Estadual Leontino Alves de Oliveira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io Negro/MS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GETEC: Elizangela Maria dos Santos Arruda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Grupo de Estudo e Discussã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GED – NTE Regional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ema 25 - Avaliação de aprendizagem e os recursos tecnológ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ssibilidades de avaliação com uso das TIC na sua esc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Pesquisa orientada na STE utilizando sites variados ou escolhidos pelo professor solicitando registro no word ou Br Office ou power point com idéias próprias para serem apresentadas e discutidas (conforme o tema pode ser único ou sub temas por grupo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Resolução de exercícios utilizando o blog do professor com os links direcionados onde primeiro o alunos resolverá as situações no caderno e em seguida conferirá utilizando o jogo on line apresentado no b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Após pesquisa na STE ou uso de vídeos da TV Escola o professor poderá pedir uma síntese, fazer a correção e solicitar a gravação do áudio utilizando o audacity ou produção de movie mak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Trabalhar com a produção de desenhos no paint com caixa de textos verificando a aprendizagem sobre determinado assu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Utilizar o facebook montando grupo da turma e trabalhar um conteúdo sendo criadas atividades diferentes para cada grupo, permitindo produções diferent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9298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crição de situações de avaliação da Escola Estadual Leontino Alves de Olivei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tualmente temos professores utilizando facebook para trabalhar alguns conteú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so do Paint para verificar aprendizagem com aplicação de caixa de tex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so de vídeos da TV Escola com produção de relató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laboração de vídeos e gravação no auda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Algumas Atividades realiz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s://www.youtube.com/watch?v=yYi26TYT-64&amp;feature=youtu.b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s://www.youtube.com/watch?v=2Zv6Uop8BIM&amp;feature=youtu.b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rn-eli.podomatic.com/entry/2015-07-10T08_38_45-07_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rientações para melhorar a avaliação formativa com uso das TI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21428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lanejar o conteúdo de forma a orientar os alunos em suas produçõ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Valorizar a produção do aluno não se apegando a quantidade mas a qualida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azer demonstração de atividades já realizadas para terem como exempl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ar devolutivas sobre as atividades realizadas por meio de blog ou faceboo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Valorizar as atividades dos alunos, divulgando as produçõ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14:53:56Z</dcterms:created>
  <dc:creator>PROGETEC</dc:creator>
  <dc:description/>
  <dc:language>en-US</dc:language>
  <cp:lastModifiedBy>PROGETEC</cp:lastModifiedBy>
  <dcterms:modified xsi:type="dcterms:W3CDTF">2015-09-08T19:02:10Z</dcterms:modified>
  <cp:revision>2</cp:revision>
  <dc:subject/>
  <dc:title>  Escola Estadual Leontino Alves de Oliveira Rio Negro/MS  PROGETEC: Elizangela Maria dos Santos Arruda  Grupo de Estudos e Discussão  GED – NTE Regional  Tema 25 - Avaliação de aprendizagem e os recursos tecnológicos </dc:title>
</cp:coreProperties>
</file>